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E6B-F154-4EDB-944E-4EA29BE3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58C-24C8-4174-8BB9-B54D471B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A46-F004-47C6-9228-1CE67EDF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07D-74AD-4DC8-BA61-0DB8E7CF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E80-D470-484D-A2DE-141C6F82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E27-D7C1-4049-813D-002FF3A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B09-92E0-4FC3-8C7D-7804E8D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CDE-C17D-4DA4-9F6F-42CF151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189-A913-49B1-B18C-398CFD8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6F4-0C67-4269-AF1A-78425E7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210-7728-41F1-BF5F-AB504D5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501-5F06-4DDF-BF9D-7F523FD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A53-2BEA-404C-B4FA-E1AC37322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9—New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ángz i ho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è (color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òng heav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意思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ìs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; interest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石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ít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ne;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bǎobei4 trea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可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kěshì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ěxǔ perh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ěxǔ perhap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个小石头是一个金子石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lsabey\Local Settings\Temporary Internet Files\Content.IE5\XSJY32GK\MPj04393180000[1].jpg"/>
          <p:cNvPicPr/>
          <p:nvPr/>
        </p:nvPicPr>
        <p:blipFill>
          <a:blip r:embed="rId1"/>
          <a:stretch/>
        </p:blipFill>
        <p:spPr>
          <a:xfrm>
            <a:off x="2895480" y="25146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一座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lsabey\Local Settings\Temporary Internet Files\Content.IE5\9WNF7AJN\MPj0438961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山上有一个小人的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ángz i hou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5" descr="C:\Documents and Settings\lsabey\Local Settings\Temporary Internet Files\Content.IE5\9WNF7AJN\MPj04389610000[1].jpg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小人的房子又小又白色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è (color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XSJY32GK\MPj04385300000[1].jpg"/>
          <p:cNvPicPr/>
          <p:nvPr/>
        </p:nvPicPr>
        <p:blipFill>
          <a:blip r:embed="rId1"/>
          <a:stretch/>
        </p:blipFill>
        <p:spPr>
          <a:xfrm>
            <a:off x="1752480" y="1981080"/>
            <a:ext cx="603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lsabey\Local Settings\Temporary Internet Files\Content.IE5\XSJY32GK\MPj04304470000[1]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座房子很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Documents and Settings\lsabey\Local Settings\Temporary Internet Files\Content.IE5\XSJY32GK\MPj04385300000[1].jpg"/>
          <p:cNvPicPr/>
          <p:nvPr/>
        </p:nvPicPr>
        <p:blipFill>
          <a:blip r:embed="rId2"/>
          <a:stretch/>
        </p:blipFill>
        <p:spPr>
          <a:xfrm>
            <a:off x="5410080" y="4952880"/>
            <a:ext cx="15494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lsabey\Local Settings\Temporary Internet Files\Content.IE5\7ARHBD3L\MPj04073470000[1].jpg"/>
          <p:cNvPicPr/>
          <p:nvPr/>
        </p:nvPicPr>
        <p:blipFill>
          <a:blip r:embed="rId1"/>
          <a:stretch/>
        </p:blipFill>
        <p:spPr>
          <a:xfrm>
            <a:off x="1219320" y="161604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今日两百二十个石头进来小人的房子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lsabey\Local Settings\Temporary Internet Files\Content.IE5\3ULOY7Z0\MPj04327190000[1].jpg"/>
          <p:cNvPicPr/>
          <p:nvPr/>
        </p:nvPicPr>
        <p:blipFill>
          <a:blip r:embed="rId1"/>
          <a:stretch/>
        </p:blipFill>
        <p:spPr>
          <a:xfrm>
            <a:off x="1905120" y="1447920"/>
            <a:ext cx="5602320" cy="74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个石头又大又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òng heav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也有意思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ìs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; interest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我明白这个大石头下有一个宝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bǎobei4 trea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Documents and Settings\lsabey\Local Settings\Temporary Internet Files\Content.IE5\FGJUL90C\MPj03418720000[1].jpg"/>
          <p:cNvPicPr/>
          <p:nvPr/>
        </p:nvPicPr>
        <p:blipFill>
          <a:blip r:embed="rId1"/>
          <a:stretch/>
        </p:blipFill>
        <p:spPr>
          <a:xfrm>
            <a:off x="1371600" y="1905120"/>
            <a:ext cx="6324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有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一个小石头。 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kěshì bu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这个小石头又小又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太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lsabey\Local Settings\Temporary Internet Files\Content.IE5\XSJY32GK\MPj04372190000[1].jpg"/>
          <p:cNvPicPr/>
          <p:nvPr/>
        </p:nvPicPr>
        <p:blipFill>
          <a:blip r:embed="rId2"/>
          <a:stretch/>
        </p:blipFill>
        <p:spPr>
          <a:xfrm>
            <a:off x="2133720" y="2971800"/>
            <a:ext cx="492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3:35:33Z</dcterms:created>
  <dc:creator>itsuser</dc:creator>
  <dc:description/>
  <dc:language>en-US</dc:language>
  <cp:lastModifiedBy>itsuser</cp:lastModifiedBy>
  <dcterms:modified xsi:type="dcterms:W3CDTF">2009-03-17T18:02:21Z</dcterms:modified>
  <cp:revision>18</cp:revision>
  <dc:subject/>
  <dc:title>山上有一个小人白色【sè (color)】的房子【fángz i house】</dc:title>
</cp:coreProperties>
</file>